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DC4-8849-4295-AFAA-B594CE88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3C5-BC42-495A-9043-693EA62D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0A8-B8E7-40B1-8C3E-3AC20326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A8A-3C01-4F89-822A-A13F1268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3ED4-C09B-4240-A351-26D6F460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FC51-F010-46A0-9A21-F33FB1C4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8AF4-641C-45A3-BB89-C34AD8AA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DA78-077D-4AF3-8117-647B380D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0B40-DAEE-4432-83F7-793695BC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FC56-4B1B-4AD0-9468-33813799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C8D4-E940-4B8E-ACC6-3DAF9DE1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4414-5795-42DF-874C-F7BC9725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F818-062C-4A88-8C14-0ABDC29E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EEBA-9E11-4340-987C-1F3FB444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258B-DF3C-4D50-96B5-2971D67F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02C7-E530-4C14-8CBB-8AC3B6C0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3683-3A5D-44DD-8AAF-0EF3C0E5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A99-72A3-41C7-AFEC-7ECF74C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1D1-C4B0-41CB-B34A-1B23ECD2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D1F-70B5-49A1-82B3-DA2F5998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745-E97E-494D-82FD-9DC4846D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388-44DB-4DE6-A234-1FDCBB20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CC4-370D-485B-AE8F-61A464CE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6CF-6723-42CA-84DC-99933A7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ffffcc">
                  <a:alpha val="50196"/>
                </a:srgbClr>
              </a:gs>
              <a:gs pos="100000">
                <a:srgbClr val="9d9d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26261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172360" y="73080"/>
            <a:ext cx="581040" cy="47628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1584360" y="4140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imes New Roman"/>
              </a:rPr>
              <a:t>II Workshop de Pesquisa e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9d9d7d"/>
              </a:gs>
              <a:gs pos="50000">
                <a:srgbClr val="ffffcc">
                  <a:alpha val="50196"/>
                </a:srgbClr>
              </a:gs>
              <a:gs pos="100000">
                <a:srgbClr val="9d9d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26261f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72360" y="73080"/>
            <a:ext cx="58104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84360" y="4140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imes New Roman"/>
              </a:rPr>
              <a:t>II Workshop de Pesquisa e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ff"/>
                </a:solidFill>
                <a:latin typeface="Arial"/>
              </a:rPr>
              <a:t>Escalonamento, Locação e Remanejamento de Equipes de Atendimento a Reclamações (Plantão)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04920" y="3886200"/>
            <a:ext cx="86104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5f5f5f"/>
                </a:solidFill>
                <a:latin typeface="Arial"/>
              </a:rPr>
              <a:t>Parceri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5f5f5f"/>
                </a:solidFill>
                <a:latin typeface="Arial"/>
              </a:rPr>
              <a:t>ESCELSA - Espírito Santo Centrais Elétricas 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5f5f5f"/>
                </a:solidFill>
                <a:latin typeface="Arial"/>
              </a:rPr>
              <a:t>UFES - Universidade Federal do Espírito Sa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4d4d4d"/>
                </a:solidFill>
                <a:latin typeface="Arial"/>
              </a:rPr>
              <a:t>Setembro de 200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mplementar um sistema computacional que permita realizar simulações sobre alocação ótima de equipes de atendimento de ocorrências emergênciais e emitir recomendações sobre a movimentação das mesm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Desenvolviment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Propor modelagem computacional que englobe os seguintes dad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distribuição geográfica de equipes de manutenção;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distribuição geográfica de ocorrências emergenciais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restrições sobre deslocamentos de equipes;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dados históricos de ocorrências emergenciais, deslocamentos de equipes e tempos de atendimento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avaliação de parâmetros de desempenho como DEC, FEC, TMA.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Desenvolvimento continuaçã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Número de Equipe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Perfil (Skill das Equipes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Tipo de Veículos Utlizad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Número / Tipos de Serviç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ondições Climatic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Condições Geográfic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Metodologia de Desenvolviment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Desenvolvimento de Algorítmos de aproximação e meta - heurísticas para incorporação em sistema computacional de simulação utilizando “clusteres” para minimizar o impacto de tempo de resolução de problemas complexo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Os algorítmos serão produzidos com base nos dados anteriormente referid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Metodologia de Transferência de Tecnolog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 algn="just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Realização de treinamento para a capacitação da equipe nos fundamentos teóricos do projeto: Processamento paralelo, geometria computacional, otimização combinatória e meta - heurístic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just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Desenvolvimento de documentação de toda a pesquisa realizada e do software implementado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 algn="just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Treinamento da equipe da empresa no uso do software a ser desenvolvid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3480" y="57168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ff"/>
                </a:solidFill>
                <a:latin typeface="Times New Roman"/>
              </a:rPr>
              <a:t>Etapas / Produtos do Projeto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057320"/>
            <a:ext cx="91440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9"/>
            </a:gs>
            <a:gs pos="50000">
              <a:srgbClr val="ffffcc"/>
            </a:gs>
            <a:gs pos="100000">
              <a:srgbClr val="fefe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Menor deslocamento das equi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Menor tempo de atendimen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Menor custo de atendimen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Maior produtividade das equi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Melhoria nos indicadores de desempenho DEC e FE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3T14:34:05Z</dcterms:created>
  <dc:creator>João Bosco Queiroz Ferreira</dc:creator>
  <dc:description/>
  <dc:language>en-US</dc:language>
  <cp:lastModifiedBy>ESCELSA</cp:lastModifiedBy>
  <cp:lastPrinted>2002-07-30T18:53:30Z</cp:lastPrinted>
  <dcterms:modified xsi:type="dcterms:W3CDTF">2003-09-05T19:11:16Z</dcterms:modified>
  <cp:revision>127</cp:revision>
  <dc:subject/>
  <dc:title>Sistema especialista para Alocação e Remanejamento Ótimo de Equipes </dc:title>
</cp:coreProperties>
</file>